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C72D-E4EE-470C-85DB-A4FC4FDFC4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46AD-0E1A-43CE-87EC-14920D352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E14-1C5A-4A69-9FD6-0891D751F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 intest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Calibri"/>
              </a:rPr>
              <a:t>1, 25-DHCC bind to vitamin D receptors forming a complex that binds to the vitamin D response element upstream of the transcription start site of vitamin D influenced genes causing enhancing gene transcription of genes of calcium transport from intestinal lumen (calcium absor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Calibri"/>
              </a:rPr>
              <a:t>In the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bo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1, 25-DHCC stimulates terminal differentiation of osteoclasts precursors to osteocla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&amp; also stimulates osteoblasts to influence osteoclasts to mobilize bone 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1, 25-DHCC does not directly affect mature osteoclastic phys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78D-11BE-4E5B-9592-5652DC124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568-2434-474C-A63B-E4DBA56000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3066-1403-4DCF-8530-1CBDA7403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Blood PTH in primary hyperparathyroidism may b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INAPPROPRIATELY NORMAL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as hypercalcemia tries to suppress NORMAL PARATHYROID TISSUES in an attempt to restore normal calcium lev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C46-3A94-43A7-8F59-CBDD9F7C5E5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7B6-3EED-4BFE-88C0-65DDECDE9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64B-A65D-4FC6-A8D9-DADF1D32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133-6922-464D-82A5-7069510F5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05B-1138-4790-AFAB-80CCB0EA9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27D5-C5E0-4BD8-B8E7-D2A935C10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e4778"/>
                </a:solidFill>
                <a:latin typeface="Calibri"/>
              </a:rPr>
              <a:t>Calcium is the most prevalent mineral in the body where a 70 Kg adult about 1Kg of calcium is present , where 99% is present in bone mainly, while 1% is present in tissues and body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3901-6586-41D8-A73D-C2E4CA4328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ly, calcium is classified as either extracellular or intracellular. The skeleton is a major reservoir for providing calcium for both the exracellular and the intracellular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6CCD-A3C1-4EF2-B70C-2A7029305E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ized fraction is the biologically active 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308C-2E4A-46E6-AF7B-3FCA9BA053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The concentration of calcium, phosphorous  &amp; magnesium in the plasma depend on </a:t>
            </a:r>
            <a:r>
              <a:rPr b="1" lang="en-US" sz="1200" spc="-1" strike="noStrike" u="sng">
                <a:solidFill>
                  <a:srgbClr val="1e4778"/>
                </a:solidFill>
                <a:uFillTx/>
                <a:latin typeface="Calibri"/>
              </a:rPr>
              <a:t>ORGAN PHYSIOLOGY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et effect of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bone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mineral deposition &amp; resorp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Intestinal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Renal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ex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988-861F-49C8-86F6-88B16C71F9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31C-5B51-49F8-9613-138D33D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1CA-739E-42CC-8F23-D263C595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0FB-DCF5-45F4-AA91-801DDE0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D8C-1ADF-4374-AC2E-619CEDBC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BCCF-082D-4406-9AE8-237E07BC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5223-6A53-437B-83AD-8575A5B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0BB-7B40-47D6-A257-E93C30E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DDB-8BE7-4D2B-AFEE-D0A7D98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35F-1F1A-442B-A13D-191211E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82B-1691-4348-9A38-D491013B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BE16-6B5E-4FCD-9A1E-C17AF70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7A1-7F85-44E4-9600-A07265A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0FD-4BF3-4CE8-B5D6-FF2A954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5680-4D09-4161-A2B2-10C01BE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982D-9F53-41CD-A876-B368B38B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8C01-016F-42E1-B0BA-9A987C9F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8939-C607-413C-B1C9-BF1515A9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B390-E81D-4A83-9609-EAC62929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E3F4-C19B-414D-95A0-F2390057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5160-626D-4CB6-8FAE-28CA895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49BF-8780-4A40-8126-EA584FA7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EDD0-AB2A-456A-B6A4-C5FE8F1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0CE-CA28-4E2C-ABF0-5B30F1C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8B8E-084A-4C92-83A4-B9CAA5C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B8DC-4602-49DA-8CAC-C6EF77F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280C-1079-4274-83C2-6E5B03D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41C6-F213-433E-BEC6-3A16D7D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662E-BB2A-47D1-A15A-A099A9E6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1138-CD6E-42F5-A2D8-E60901D2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50B7-5112-4F2D-B270-A4D69A6C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165-47FF-4DEB-B8A8-1356BB4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4EE-6826-4501-A48A-211AA170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E64-79C0-4ABB-A063-4BBF8FD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F4F-0D9D-4F11-B18E-66510BC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B15-450B-406F-8CEB-175AB9B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40D-F863-4BA0-BD60-306E10C3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F5E-DB65-4507-9A3D-7F7AE99F4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EED-D76F-44F8-8323-96EDE7F2B930}" type="slidenum">
              <a:rPr b="0" lang="ar-E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3702-5BF2-4D9B-973F-EF4FB6DFE7F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3/Illu_thyroid_parathyroid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381880" cy="32004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Calcium Metabolism,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Homeostasis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Related Diseas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380880" y="2362320"/>
            <a:ext cx="2438640" cy="3283560"/>
          </a:xfrm>
          <a:prstGeom prst="rightArrow">
            <a:avLst>
              <a:gd name="adj1" fmla="val 50000"/>
              <a:gd name="adj2" fmla="val 40144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MS PGothic"/>
              </a:rPr>
              <a:t>[Ca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  <a:ea typeface="MS PGothic"/>
              </a:rPr>
              <a:t>2+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MS PGoth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is Regulated 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971800" y="2223720"/>
            <a:ext cx="5791320" cy="31723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6364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Parathyroid Horm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PTH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Active Vitamin D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Calcitriol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or 1,25 DH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Calcitonin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Hormo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00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tangle 3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7937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Vitamin 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 group of sterols with a hormone-like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ources of Vitamin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1-  Skin synthesis (On Exposure to Sun Light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n the skin,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7 dehydrocholesterol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s converted to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3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by exposur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un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- Di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-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nimal Source Cholecalciferol 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s D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- Plant Source:   Ergocalciferol 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2 &amp; D3 ar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biologically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ctivation of cholecalciferol</a:t>
            </a: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vitamin D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(Vitamin D3) is activated in the body to the biologically ac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form by two hydroxylations: first in th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iver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(at position 25) by 25 hydroxyla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&amp; then in th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kidney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at positions 1 by 1 </a:t>
            </a:r>
            <a:r>
              <a:rPr b="1" lang="el-GR" sz="1800" spc="-1" strike="noStrike">
                <a:solidFill>
                  <a:srgbClr val="000099"/>
                </a:solidFill>
                <a:latin typeface="Calibri"/>
                <a:ea typeface="Calibri"/>
              </a:rPr>
              <a:t>α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Active Vitamin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1, 25 dihydroxycholecalciferol  (Calcitriol  or DH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8_22modified"/>
          <p:cNvPicPr/>
          <p:nvPr/>
        </p:nvPicPr>
        <p:blipFill>
          <a:blip r:embed="rId1"/>
          <a:stretch/>
        </p:blipFill>
        <p:spPr>
          <a:xfrm>
            <a:off x="609480" y="838080"/>
            <a:ext cx="4191120" cy="5724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5334120" y="838080"/>
            <a:ext cx="251460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tamin 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</a:rPr>
              <a:t>pla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410080" y="3200400"/>
            <a:ext cx="243864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tamin 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anim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fatty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423760" y="5791320"/>
            <a:ext cx="2504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-dehydro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e4778"/>
                </a:solidFill>
                <a:uFillTx/>
                <a:latin typeface="Arial"/>
              </a:rPr>
              <a:t>In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259960" y="22860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ET VITAMIN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"/>
          <p:cNvSpPr/>
          <p:nvPr/>
        </p:nvSpPr>
        <p:spPr>
          <a:xfrm>
            <a:off x="609480" y="228600"/>
            <a:ext cx="7239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OURCES OF 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Up Arrow 18"/>
          <p:cNvSpPr/>
          <p:nvPr/>
        </p:nvSpPr>
        <p:spPr>
          <a:xfrm>
            <a:off x="6019920" y="1752480"/>
            <a:ext cx="106668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19"/>
          <p:cNvSpPr/>
          <p:nvPr/>
        </p:nvSpPr>
        <p:spPr>
          <a:xfrm>
            <a:off x="6019920" y="2743200"/>
            <a:ext cx="10666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Up Arrow 20"/>
          <p:cNvSpPr/>
          <p:nvPr/>
        </p:nvSpPr>
        <p:spPr>
          <a:xfrm>
            <a:off x="6172200" y="4952880"/>
            <a:ext cx="1066680" cy="762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5415840" y="50292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e4778"/>
                </a:solidFill>
                <a:uFillTx/>
                <a:latin typeface="Arial"/>
              </a:rPr>
              <a:t>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8384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Vitamin D metabo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7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  (Vitamin D3)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derived from 7-dehydrocholesterol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skin by  sunlight or supplied in the di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In liv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 is converted to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25-H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y the  enzyme 25 hydrox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is the predominant form of vitamin 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the ma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torag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form of vitami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the bo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In kidney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1</a:t>
            </a:r>
            <a:r>
              <a:rPr b="1" lang="el-GR" sz="2000" spc="-1" strike="noStrike">
                <a:solidFill>
                  <a:srgbClr val="000099"/>
                </a:solidFill>
                <a:latin typeface="Calibri"/>
                <a:ea typeface="Calibri"/>
              </a:rPr>
              <a:t> α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 enzyme converts 25 hydroxycholecalciferol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1,25-dihydroxycholecalcifer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1, 25 DHCC or Calcitrio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which is th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iologicall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ive form of vitamin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Calibri"/>
                <a:ea typeface="Calibri"/>
              </a:rPr>
              <a:t>Functions of Vitamin D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1828440"/>
            <a:ext cx="80773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ive vitamin D (1, 25 DHCC or Calcitriol) regulates calcium levels in the body (calcium homeostas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roug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creasing absorption of calcium by th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intes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inimizing loss of calcium by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kid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imulating resorption of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b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hen necessa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Text Box 6" descr=""/>
          <p:cNvPicPr/>
          <p:nvPr/>
        </p:nvPicPr>
        <p:blipFill>
          <a:blip r:embed="rId1"/>
          <a:stretch/>
        </p:blipFill>
        <p:spPr>
          <a:xfrm>
            <a:off x="835200" y="4572000"/>
            <a:ext cx="7400880" cy="1432080"/>
          </a:xfrm>
          <a:prstGeom prst="rect">
            <a:avLst/>
          </a:prstGeom>
          <a:ln w="0">
            <a:noFill/>
          </a:ln>
        </p:spPr>
      </p:pic>
      <p:sp>
        <p:nvSpPr>
          <p:cNvPr id="192" name="Down Arrow 5"/>
          <p:cNvSpPr/>
          <p:nvPr/>
        </p:nvSpPr>
        <p:spPr>
          <a:xfrm>
            <a:off x="3657600" y="5105520"/>
            <a:ext cx="1523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4303440" cy="453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28_023"/>
          <p:cNvPicPr/>
          <p:nvPr/>
        </p:nvPicPr>
        <p:blipFill>
          <a:blip r:embed="rId2"/>
          <a:stretch/>
        </p:blipFill>
        <p:spPr>
          <a:xfrm>
            <a:off x="4876920" y="2133720"/>
            <a:ext cx="3965400" cy="289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Mechanism of Action of Vitamin D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5"/>
          <p:cNvSpPr/>
          <p:nvPr/>
        </p:nvSpPr>
        <p:spPr>
          <a:xfrm rot="692400">
            <a:off x="4188960" y="3360240"/>
            <a:ext cx="2656080" cy="1112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dce6f2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6"/>
          <p:cNvSpPr/>
          <p:nvPr/>
        </p:nvSpPr>
        <p:spPr>
          <a:xfrm rot="19414800">
            <a:off x="4334040" y="4357800"/>
            <a:ext cx="807840" cy="1825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ce6f2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838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Parathyroid hormone (PT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8" descr="Image:Illu thyroid parathyro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5790960" cy="35287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  <a:ea typeface="Calibri"/>
              </a:rPr>
              <a:t>Functions of Parathyroid Hormone (P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40cb8"/>
                </a:solidFill>
                <a:latin typeface="Cambria"/>
              </a:rPr>
              <a:t>The active hormone is secreted in response to al fall in plasma Ca2+ resulting in in Ca2+ increase in bl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0cb8"/>
                </a:solidFill>
                <a:latin typeface="Cambria"/>
              </a:rPr>
              <a:t>On bo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 stimulates bone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sorption by osteoclast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sulting in release of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calcium ions from bones to blood in cases of hypocalcem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0cb8"/>
                </a:solidFill>
                <a:latin typeface="Cambria"/>
              </a:rPr>
              <a:t>On kidne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1-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increase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absorption of calcium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from kidney tubul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2-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promote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activity of 1</a:t>
            </a:r>
            <a:r>
              <a:rPr b="0" lang="en-GB" sz="1700" spc="-1" strike="noStrike">
                <a:solidFill>
                  <a:srgbClr val="140cb8"/>
                </a:solidFill>
                <a:latin typeface="Symbol"/>
                <a:ea typeface="Symbol"/>
              </a:rPr>
              <a:t>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hydroxylase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of the kidney (with more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hydroxylation of 25 hydroxycholecalciferol (25 HCC) to 1,25 DHCC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(activation of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vitamin D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)  which increases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intestinal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absorption of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calcium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So, action of PTH on intestine is </a:t>
            </a:r>
            <a:r>
              <a:rPr b="1" lang="en-GB" sz="1700" spc="-1" strike="noStrike" u="sng">
                <a:solidFill>
                  <a:srgbClr val="140cb8"/>
                </a:solidFill>
                <a:uFillTx/>
                <a:latin typeface="Cambria"/>
              </a:rPr>
              <a:t>indirect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 (via Vitamin D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  <a:ea typeface="Calibri"/>
              </a:rPr>
              <a:t>Role of Parathyroid Hormone (PTH) in Hypocal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28_024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457200" y="1905120"/>
            <a:ext cx="35812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P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is the princip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acute regulator of blood [Ca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  <a:ea typeface="Calibri"/>
              </a:rPr>
              <a:t>2+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is a hypercalcemic hormone in case of hypocal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3600" y="646200"/>
            <a:ext cx="5335920" cy="687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Calcitonin Horm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3152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onin hormone i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ecreted by the parafollicular or “C” cells of the thyroid g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leased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respons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 high blood calcium (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ercalcemi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cases of hypercalcem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onin Hormone  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blood [Ca2+]  b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clast activit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preventing release of calcium to bloo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nal reabsorption of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et result of its actio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Symbol"/>
                <a:ea typeface="Symbol"/>
              </a:rPr>
              <a:t>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 blood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LCITONIN IS THE ONLY HYPOCALCEMIC HORM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933960" cy="7776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bjectives of Lec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4475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 Math"/>
                <a:ea typeface="Aharoni"/>
              </a:rPr>
              <a:t>By the end of these lectures, students should be able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Recall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Calcium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Sources, Distributions &amp;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Understand Organ &amp; Endocrinal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Homeostasis of Calcium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with recognition of the roles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Vitamin 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Parathyroid Hormone (P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Calcitonin Horm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Verify Main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Causes of Hypocalcaemia &amp; Hypercalc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Recognize the biochemical and Clinical Interrelations of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Metabolic diseases of bon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Rickets &amp; Osteomala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Osteopor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MAIN CAUSES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HYPERCALCEM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761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imary hyperparathyroidism</a:t>
            </a:r>
            <a:r>
              <a:rPr b="1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due to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enoma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(single or multiple) of the parathyroid gl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PTH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(or upper normal range *)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calcium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 &amp;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phosphate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low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Urine calcium &amp; phosphorous are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(hypercalciuria &amp; hyperphasphatruria)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umors</a:t>
            </a:r>
            <a:r>
              <a:rPr b="1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umoral hypercalcemia of malignancy due to PTHrP (PTH related protein) released by  some kinds of tumor ce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THrP is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responsive to negative feedback by calciu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Hypervitaminosis 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Excessive intake of vitamin 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Extrarenal hydroxylation of 25HCC as in granulmotaous diseases as sarcoido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447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AIN CAUSES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HYPOCALCEM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ypoparathyroidism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TH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Vitamin D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ena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disease :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low 1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 activity  &amp; by hyperphosphat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ypoalbuminemia: low blood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lbu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utritiona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calcium de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testinal disorders causing inadequate calcium or vit.D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Rickets &amp; Osteomala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are metabolic bone diseases occurring due to poor mineralization (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lcium content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) of b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e4778"/>
                </a:solidFill>
                <a:uFillTx/>
                <a:latin typeface="Calibri"/>
                <a:ea typeface="Calibri"/>
              </a:rPr>
              <a:t>Causes of poor calcification of b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.   Vitamin D deficien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500" spc="-1" strike="noStrike">
                <a:solidFill>
                  <a:srgbClr val="1e4778"/>
                </a:solidFill>
                <a:latin typeface="Calibri"/>
                <a:ea typeface="Calibri"/>
              </a:rPr>
              <a:t>1-  </a:t>
            </a: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Deficiency of sources of vitamin D3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 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BOTH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utrional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Vitamin D deficiency (vitamin D3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Poor exposure to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un ligh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2- Impaired vitamin D metabolism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enal Rickets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: deficiency of 1 hydroxylase of the kidn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Deficiency of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arathyroid hormone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: decrease activity of 1 </a:t>
            </a:r>
            <a:r>
              <a:rPr b="0" lang="el-GR" sz="1500" spc="-1" strike="noStrike">
                <a:solidFill>
                  <a:srgbClr val="000099"/>
                </a:solidFill>
                <a:latin typeface="Calibri"/>
                <a:ea typeface="Calibri"/>
              </a:rPr>
              <a:t>α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Genetic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defects in vitamin D metabolism (defect in its activation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Genetic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defects of vitamin D receptors or abnormal ligand bind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  <a:ea typeface="Calibri"/>
              </a:rPr>
              <a:t>II. 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Calcium deficiency (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nutritional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or  defect in intestinal 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bsorption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228600"/>
            <a:ext cx="8382240" cy="62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0000"/>
                </a:solidFill>
                <a:uFillTx/>
                <a:latin typeface="Calibri"/>
              </a:rPr>
              <a:t>Metabolic Diseases of Bon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RICKETS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Normal formation of the collagen matrix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U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Incomplete mineralization (poor calcifica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Sof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B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CLINICALLY: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Bone Deform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  <a:ea typeface="Calibri"/>
              </a:rPr>
              <a:t>OSTEOMALACI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Demineralization (poor calcification) of preexisting bone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wi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CLINICALLY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: More Susceptibility to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ra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Down Arrow 6"/>
          <p:cNvSpPr/>
          <p:nvPr/>
        </p:nvSpPr>
        <p:spPr>
          <a:xfrm>
            <a:off x="3124080" y="518148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own Arrow 7"/>
          <p:cNvSpPr/>
          <p:nvPr/>
        </p:nvSpPr>
        <p:spPr>
          <a:xfrm>
            <a:off x="3200400" y="281952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own Arrow 8"/>
          <p:cNvSpPr/>
          <p:nvPr/>
        </p:nvSpPr>
        <p:spPr>
          <a:xfrm>
            <a:off x="3124080" y="342900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914400" y="304920"/>
            <a:ext cx="7162920" cy="10666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0880" y="685800"/>
            <a:ext cx="7601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Chronic Renal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Low activity of Renal 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Hydroxy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ecreased ability to form th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ctive form of vitamin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HCC will be low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Treatment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  1,25 DHCC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rio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own Arrow 5"/>
          <p:cNvSpPr/>
          <p:nvPr/>
        </p:nvSpPr>
        <p:spPr>
          <a:xfrm>
            <a:off x="2971800" y="3048120"/>
            <a:ext cx="213372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6"/>
          <p:cNvSpPr/>
          <p:nvPr/>
        </p:nvSpPr>
        <p:spPr>
          <a:xfrm>
            <a:off x="2971800" y="2133720"/>
            <a:ext cx="21337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Renal Rickets</a:t>
            </a:r>
            <a:br>
              <a:rPr sz="40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nal Osteodys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077320" cy="1508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aboratory Investigations for the Diagnosis of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209680"/>
            <a:ext cx="80773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4778"/>
                </a:solidFill>
                <a:latin typeface="Calibri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nvestigations to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confirm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the diagnosis of ricke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levels of 25-hydroxycholecalciferol (25 HCC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calcium, (hypocalcem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Alkaline phosphatase (AL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Investigations to diagnose the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use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of ricket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Kidney function tests (KF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1, 25 dihydroxycholecalciferol (1, 25 DH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P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Others i.e. molecular genetics (if indica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1e47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1e47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revalent metabolic bone disease in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ul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It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means 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eduction in bone mass per unit volu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i.e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. bone matrix composition is normal, but it is reduc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Typically silent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(without symptoms) until it leads to 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racture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at a degree of trauma that would not have caused a fracture in a non-osteoprotic skelet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Fractures are called fragility or osteoporotic fracture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Most affected: vertebral compression (may be asymptomatic) &amp; hip fractures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(requires surgery in most case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ost-menopausal women lose more bone mass than men (</a:t>
            </a:r>
            <a:r>
              <a:rPr b="1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rimary osteoporosi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Osteoporosis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iagnosi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is by dual energy x-ray absorpitometry (</a:t>
            </a:r>
            <a:r>
              <a:rPr b="1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XA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) sc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Lab diagnosis: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conclus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611440" cy="1331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533520" y="304920"/>
            <a:ext cx="822960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Osteop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own Arrow 6"/>
          <p:cNvSpPr/>
          <p:nvPr/>
        </p:nvSpPr>
        <p:spPr>
          <a:xfrm rot="14700000">
            <a:off x="6967800" y="1568520"/>
            <a:ext cx="382680" cy="1832040"/>
          </a:xfrm>
          <a:prstGeom prst="down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11744" t="2180" r="0" b="0"/>
          <a:stretch/>
        </p:blipFill>
        <p:spPr>
          <a:xfrm>
            <a:off x="1219320" y="1795320"/>
            <a:ext cx="6781680" cy="5062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762120" y="304920"/>
            <a:ext cx="8001000" cy="1371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Osteop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condary Osteoporosi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isk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Secondary osteoporosis may be caus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educed bone ma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with increased consequent risk of fra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isk Factors for osteoporos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dvanced age (esp. in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ertain Drug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Family history of osteoporosis or fractur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Immobiliz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Smok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Excess alcohol intak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ushing’s syndrom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Long term glucocorticoids therap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Hyperparathyroid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Hyperthyroid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Vitamin D disord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ertain malignanc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se cases, DXA is highly recommended to evaluate bone d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se Study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 27 years old man presents to his physician 3 weeks after his thyroid surgically removed for a thyroid cancer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owever, since he went home from the hospital, he noticed painful, involuntary muscular cramp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also felt numbness and tingling around his mouth &amp; in his hands and feet. His parents said that he was irritable for the last 2 week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is on levothyroxine medicat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</a:rPr>
              <a:t>On examin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has a well-healing thyroidectomy scar &amp; no palpable masses in the thyroid b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Blood pressure cuff inflated above the systolic pressure induces involuntary muscular contracture in the ipsilateral hand after 60 seconds (Trousseau`s sig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Tapping on the face interior to the ears cause twitching in the ipsilateral corner of the mouth (Chevostek`s sign)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</a:rPr>
              <a:t>Lab Investigation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Calcium:   5.6 mg/dl (N: 8.5 – 10.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lbumin:  4.1 g/dl  (N: 3.5 – 4.8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PTH: &lt; 1 pg/ml   (N: </a:t>
            </a:r>
            <a:r>
              <a:rPr b="0" lang="en-US" sz="1400" spc="-1" strike="noStrike">
                <a:solidFill>
                  <a:srgbClr val="000099"/>
                </a:solidFill>
                <a:latin typeface="Calibri"/>
              </a:rPr>
              <a:t>N: 11 – 5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omponents of B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99840"/>
            <a:ext cx="84582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ne is a specialized mineralized connective tissue contai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1-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ellular Elemen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blas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bone forming cell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clas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(bone resorping ce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-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rganic Matri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tei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ype I Colla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teoglyc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organic Mineral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Calcium &amp; Phosph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ther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small amount of hydroxide &amp; carb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lcium is tightly regulated with phosphorous in the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AGNOSIS of Case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The parathyroid glands were removed during thyroidectom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PTH undetec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Hypocalc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Clinical Manifestations of hypocalcem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(increased reflexes &amp; muscular cramping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se Study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77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 6-year old girl is brought to a pediatrician by her par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They reported that her height is not progressing as they think it should (or like it   did for her 8 year old sister &amp; her legs look bow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She takes no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Family history: Some cousins has the sam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Lower Lim X-Ray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Bowing of long bo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Generalized demineralization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Clinical Chemistry Lab Investigations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Calcium: 7.2 mg/dl (N: 8.5 – 10.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lbumin: 4.1 g/dl  (N: 3.5 – 4.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PTH: 866 pg/dl  (N: 11 – 5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25 HCC: 35 ng/dl (N: 20- 5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1, 25 DHCC: less than 1 pg/ml (N: 20 – 7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AGNOSIS of Case-2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seudohyperparathyroid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 which there is genetic mutations in the stimulatory G-prote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CTIVE G Prote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activation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of adenylate cycl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cAM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EFFECT OF P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YPOCALCEM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CREASE OF PTH (HYPERPARATHYROIDISM WITH HYPOCALCEMI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TO BE CONFIRMED by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MOLECULAR GENETIC ANALYSI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Calcium is the most abundant mineral in the body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: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about 1 kg in a 70 kg 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~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99% of the body’s calcium is present in the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where it is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combined with phosphate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ff0000"/>
                </a:solidFill>
                <a:latin typeface="Calibri"/>
              </a:rPr>
              <a:t>Dietary </a:t>
            </a:r>
            <a:r>
              <a:rPr b="1" lang="en-US" sz="3900" spc="-1" strike="noStrike">
                <a:solidFill>
                  <a:srgbClr val="ff0000"/>
                </a:solidFill>
                <a:latin typeface="Calibri"/>
                <a:ea typeface="Calibri"/>
              </a:rPr>
              <a:t>Sources of Calcium</a:t>
            </a:r>
            <a:r>
              <a:rPr b="1" lang="en-US" sz="3900" spc="-1" strike="noStrike">
                <a:solidFill>
                  <a:srgbClr val="ff0000"/>
                </a:solidFill>
                <a:latin typeface="Calibri"/>
                <a:ea typeface="Calibri"/>
              </a:rPr>
              <a:t> 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Rich</a:t>
            </a: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lk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lk products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as cheese &amp; 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F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Legumes, vege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380880" y="1530360"/>
            <a:ext cx="7713720" cy="4966920"/>
            <a:chOff x="380880" y="1530360"/>
            <a:chExt cx="7713720" cy="4966920"/>
          </a:xfrm>
        </p:grpSpPr>
        <p:sp>
          <p:nvSpPr>
            <p:cNvPr id="141" name="Rectangle 4"/>
            <p:cNvSpPr/>
            <p:nvPr/>
          </p:nvSpPr>
          <p:spPr>
            <a:xfrm>
              <a:off x="380880" y="2895480"/>
              <a:ext cx="1981080" cy="11912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  <a:ea typeface="MS PGothic"/>
                </a:rPr>
                <a:t>Total Calc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  <a:ea typeface="MS PGothic"/>
                </a:rPr>
                <a:t>Of the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3200400" y="2286000"/>
              <a:ext cx="2081160" cy="70380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buClr>
                  <a:srgbClr val="ff0000"/>
                </a:buClr>
                <a:buFont typeface="Symbol" charset="2"/>
                <a:buChar char="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99 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 b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419360" y="5715000"/>
              <a:ext cx="936360" cy="39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IC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504960" y="4648320"/>
              <a:ext cx="934920" cy="810360"/>
            </a:xfrm>
            <a:prstGeom prst="rect">
              <a:avLst/>
            </a:prstGeom>
            <a:solidFill>
              <a:srgbClr val="92d050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1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151680" y="3205080"/>
              <a:ext cx="1871640" cy="33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indent="-27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Blood Clott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6151680" y="4122000"/>
              <a:ext cx="1942920" cy="580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Excitability of Nerve &amp; Mus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6151680" y="1530360"/>
              <a:ext cx="1820880" cy="5806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Bone Form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6172200" y="2290680"/>
              <a:ext cx="1884240" cy="5806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servoir for ECF [Ca2+]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5923080" y="5186520"/>
              <a:ext cx="2133360" cy="13107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Metabolic Regulation for Action of Hormones &amp; Enzyme Ac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2209680" y="2666880"/>
              <a:ext cx="990360" cy="25848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2361960" y="4648320"/>
              <a:ext cx="1143000" cy="38088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0"/>
            <p:cNvSpPr/>
            <p:nvPr/>
          </p:nvSpPr>
          <p:spPr>
            <a:xfrm flipV="1">
              <a:off x="5257800" y="1828800"/>
              <a:ext cx="914400" cy="45720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 flipV="1">
              <a:off x="5257800" y="2590920"/>
              <a:ext cx="914400" cy="38088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 flipV="1">
              <a:off x="5257800" y="3352320"/>
              <a:ext cx="914400" cy="3812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5257800" y="4115160"/>
              <a:ext cx="914400" cy="38052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5"/>
            <p:cNvSpPr/>
            <p:nvPr/>
          </p:nvSpPr>
          <p:spPr>
            <a:xfrm>
              <a:off x="4343400" y="3733920"/>
              <a:ext cx="936360" cy="39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EC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6"/>
            <p:cNvSpPr/>
            <p:nvPr/>
          </p:nvSpPr>
          <p:spPr>
            <a:xfrm flipV="1">
              <a:off x="4419360" y="4114800"/>
              <a:ext cx="304560" cy="53352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19360" y="5182200"/>
              <a:ext cx="380880" cy="53280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8"/>
            <p:cNvSpPr/>
            <p:nvPr/>
          </p:nvSpPr>
          <p:spPr>
            <a:xfrm>
              <a:off x="5334120" y="6096240"/>
              <a:ext cx="609480" cy="759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57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Biological Functions of Calcium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3" descr="C:\Documents and Settings\biocrr\My Documents\Biochem201\Lectures\Dental\Calcium\Scans\Circulating Ca.JPG"/>
          <p:cNvPicPr/>
          <p:nvPr/>
        </p:nvPicPr>
        <p:blipFill>
          <a:blip r:embed="rId1"/>
          <a:stretch/>
        </p:blipFill>
        <p:spPr>
          <a:xfrm>
            <a:off x="798480" y="1255680"/>
            <a:ext cx="755352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7-Point Star 5"/>
          <p:cNvSpPr/>
          <p:nvPr/>
        </p:nvSpPr>
        <p:spPr>
          <a:xfrm>
            <a:off x="5334120" y="3886200"/>
            <a:ext cx="2590560" cy="1600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143000" y="533520"/>
            <a:ext cx="7010280" cy="7034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Calcium in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86400" cy="838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rgan Calcium Homeostasi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>
            <a:lum contrast="6000"/>
          </a:blip>
          <a:srcRect l="0" t="0" r="20006" b="0"/>
          <a:stretch/>
        </p:blipFill>
        <p:spPr>
          <a:xfrm>
            <a:off x="228600" y="1143000"/>
            <a:ext cx="64008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66" name="Oval 4"/>
          <p:cNvGrpSpPr/>
          <p:nvPr/>
        </p:nvGrpSpPr>
        <p:grpSpPr>
          <a:xfrm>
            <a:off x="6229440" y="2114640"/>
            <a:ext cx="1639800" cy="2628720"/>
            <a:chOff x="6229440" y="2114640"/>
            <a:chExt cx="1639800" cy="2628720"/>
          </a:xfrm>
        </p:grpSpPr>
        <p:pic>
          <p:nvPicPr>
            <p:cNvPr id="167" name="Oval 4" descr=""/>
            <p:cNvPicPr/>
            <p:nvPr/>
          </p:nvPicPr>
          <p:blipFill>
            <a:blip r:embed="rId2"/>
            <a:stretch/>
          </p:blipFill>
          <p:spPr>
            <a:xfrm>
              <a:off x="6229440" y="2114640"/>
              <a:ext cx="163980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483240" y="2513160"/>
              <a:ext cx="113040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380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Organ Calcium Homeostasis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cont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609200"/>
            <a:ext cx="8229600" cy="48466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The concentra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calcium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phosphorous 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magnesium in the plasma depend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ORGAN PHYSIOLOGY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Net effect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bone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mineral deposition &amp; resor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ntestinal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Renal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52:24Z</dcterms:created>
  <dc:creator>Dedia</dc:creator>
  <dc:description/>
  <dc:language>en-US</dc:language>
  <cp:lastModifiedBy>ALWALY</cp:lastModifiedBy>
  <dcterms:modified xsi:type="dcterms:W3CDTF">2013-09-23T16:37:05Z</dcterms:modified>
  <cp:revision>246</cp:revision>
  <dc:subject/>
  <dc:title>Slide 1</dc:title>
</cp:coreProperties>
</file>